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6129-334A-4435-8307-10E527D983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15E4-BA26-4CB2-90B5-177ED19F1E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73B-FCD0-4CAF-B136-5C7565ED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90E-4AC2-4DC3-B86C-FC719D81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866-5208-453A-AF93-BC20F95E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8EB-1C4C-48D2-AA4D-2DD25667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890-2C8A-4609-B3F7-C213476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823-E373-4C83-AE1A-4A00532F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C02-DCC7-4CA2-B7B0-65CB80AC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9B7-E9D7-43BF-9A2F-0B3E1200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383-312C-4E8E-B0CB-E98F1034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898-A740-4B96-ADD3-2C3B455F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63E-B3DA-4468-BB6D-990C7C3C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C7D-D5F8-40E3-B5C9-0FAAAE2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ff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335-FE26-4321-A7B3-9405A1F63F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ordArt 5" descr=""/>
          <p:cNvPicPr/>
          <p:nvPr/>
        </p:nvPicPr>
        <p:blipFill>
          <a:blip r:embed="rId1"/>
          <a:stretch/>
        </p:blipFill>
        <p:spPr>
          <a:xfrm>
            <a:off x="1347840" y="1639800"/>
            <a:ext cx="6669000" cy="1725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473200" y="3357720"/>
            <a:ext cx="440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7216920" y="6184800"/>
            <a:ext cx="124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MX" sz="5400" spc="-1" strike="noStrike">
                <a:solidFill>
                  <a:srgbClr val="420000"/>
                </a:solidFill>
                <a:latin typeface="Times New Roman"/>
              </a:rPr>
              <a:t>           </a:t>
            </a:r>
            <a:r>
              <a:rPr b="1" lang="es-MX" sz="5400" spc="-1" strike="noStrike">
                <a:solidFill>
                  <a:srgbClr val="ff9900"/>
                </a:solidFill>
                <a:latin typeface="Times New Roman"/>
              </a:rPr>
              <a:t>Cuajimalpa</a:t>
            </a:r>
            <a:r>
              <a:rPr b="0" lang="es-MX" sz="5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76360" y="4221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Políticas Operativas para la prestación del Servicio Social en la Unidad Cuajimalpa de la UAM</a:t>
            </a:r>
            <a:r>
              <a:rPr b="1" lang="es-MX" sz="2400" spc="-1" strike="noStrike">
                <a:solidFill>
                  <a:srgbClr val="000000"/>
                </a:solidFill>
                <a:latin typeface="Eras Light ITC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9 de Mayo de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PROGRAMAS Y PROYECTOS DE SERVICIO SOCIAL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427320" indent="-427320" algn="just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yectos de servicio social aprobados por el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Consejo Divisional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just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gramas de servicio social aprobados por el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Consejo Académico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just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aprobación de programas y proyectos de servicio social deberá cumplir con los requisitos previstos en el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artículo 12 del Reglamento de Servicio Social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blecer la función sustantiva que apoyarán y las actividades básicas a desarrollar los prestadores de servicio social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programas y proyectos de Servicio Social que se sometan a la aprobación de los órganos colegiados deberán ser congruentes con los principios básicos del proyecto educativo de la unidad y señalarán explícitamente el beneficio social que proporciona  a los destinatarios de los mis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EL SERVICIO SOCIAL PARA LA UNIDAD CUAJIMALPA DE LA UA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Modalidades</a:t>
            </a:r>
            <a:r>
              <a:rPr b="0" lang="es-MX" sz="2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24000" y="1844640"/>
            <a:ext cx="85359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911160" indent="-49068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estador de servicio social en dependencias gubernamentales  en los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niveles federal, estatal y municipal, así como en organizaciones, asociaciones y fundacione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que atienden necesidades de diversos sectores socia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Trabajad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de las instituciones gubernamentales en los niveles federal, estatal y municip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115000"/>
              </a:lnSpc>
              <a:spcBef>
                <a:spcPts val="700"/>
              </a:spcBef>
              <a:spcAft>
                <a:spcPts val="1225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Instructores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n el Instituto Nacional para la Educación de los Adult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 algn="just">
              <a:lnSpc>
                <a:spcPct val="115000"/>
              </a:lnSpc>
              <a:spcBef>
                <a:spcPts val="700"/>
              </a:spcBef>
              <a:spcAft>
                <a:spcPts val="1225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poyo en planes, programas y proyectos </a:t>
            </a: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aprobados por los órganos colegiado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tales, como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proyectos de investigación o de vinculación divisional, interdivisional y por convenio con los sectores público, privado y social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539640" y="907920"/>
            <a:ext cx="82296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Modalidades</a:t>
            </a:r>
            <a:r>
              <a:rPr b="0" lang="es-MX" sz="2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Modalidades</a:t>
            </a:r>
            <a:r>
              <a:rPr b="0" lang="es-MX" sz="2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2580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prestación de servicio social en una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entidad de carácter privado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se regirá por un convenio de colaboración con la Unidad Cuajimalpa. Los convenios garantizarán que los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alumnos o egresado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que presten el servicio social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no desplacen o sustituyan la contratación de personal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que requiera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Modalidades</a:t>
            </a:r>
            <a:r>
              <a:rPr b="0" lang="es-MX" sz="2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8930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 algn="just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proyectos de investigación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aprobados por los Consejos Divisionales podrán incorporar alumnos de Servicio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 algn="just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buClr>
                <a:srgbClr val="ff66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prestación de servicio social en una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entidad de carácter privado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se regirá por un convenio de colaboración con la Unidad Cuajimalpa. Los convenios garantizarán que los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alumnos o egresado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que presten el servicio social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no desplacen o sustituyan la contratación de personal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que requiera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prestadores del servicio social deberán contar obligatoriamente con un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asesor académico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, designado por el Director de la División correspond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uando se trate de proyectos externos la propuesta de asesor deberá hacerla el Coordinador de Licenciatura respectivo. Los asesores de proyectos de servicio social serán 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profesores contratados por tiempo indeterminado.</a:t>
            </a:r>
            <a:r>
              <a:rPr b="1" lang="es-MX" sz="2800" spc="-1" strike="noStrike" u="sng">
                <a:solidFill>
                  <a:srgbClr val="ff66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68360" y="692280"/>
            <a:ext cx="8229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Modalidades</a:t>
            </a:r>
            <a:r>
              <a:rPr b="0" lang="es-MX" sz="2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Promoción, coordinación y seguimiento</a:t>
            </a:r>
            <a:r>
              <a:rPr b="1" lang="es-MX" sz="2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2162160"/>
            <a:ext cx="82580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871560" indent="-46944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ordinación de Servicio Social de la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6944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forme de Servicio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6944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sejo Académico: Evaluación de las Políticas Operativas de Servicio Social, cada d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20000"/>
                </a:solidFill>
                <a:latin typeface="Arial Narrow"/>
              </a:rPr>
              <a:t>EXPOSICIÓN DE MOTIVOS</a:t>
            </a:r>
            <a:br>
              <a:rPr sz="2800"/>
            </a:br>
            <a:r>
              <a:rPr b="1" lang="es-MX" sz="2800" spc="-1" strike="noStrike">
                <a:solidFill>
                  <a:srgbClr val="420000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3333ff"/>
                </a:solidFill>
                <a:latin typeface="Arial Narrow"/>
              </a:rPr>
              <a:t>CONSTITUCIÓN POLÍTICA DE LOS ESTADOS UNIDOS MEXICANOS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blece la </a:t>
            </a:r>
            <a:r>
              <a:rPr b="1" lang="es-MX" sz="2800" spc="-1" strike="noStrike" u="sng">
                <a:solidFill>
                  <a:srgbClr val="ff9900"/>
                </a:solidFill>
                <a:uFillTx/>
                <a:latin typeface="Arial"/>
              </a:rPr>
              <a:t>obligatoriedad</a:t>
            </a: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800" spc="-1" strike="noStrike" u="sng">
                <a:solidFill>
                  <a:srgbClr val="ff9900"/>
                </a:solidFill>
                <a:uFillTx/>
                <a:latin typeface="Arial"/>
              </a:rPr>
              <a:t>de la prestación del servicio social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de los egresados de las universidades, porque independientemente de su carácter formativo </a:t>
            </a: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constituye una retribución de quienes reciben educación superior que beneficia con sus acciones sociale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, la confianza que depositan el Estado y los ciudadanos en su formación profesional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 Narrow"/>
              </a:rPr>
              <a:t>EXPOSICIÓN DE MOTIVOS</a:t>
            </a:r>
            <a:br>
              <a:rPr sz="2800"/>
            </a:br>
            <a:r>
              <a:rPr b="1" lang="es-MX" sz="2800" spc="-1" strike="noStrike">
                <a:solidFill>
                  <a:srgbClr val="420000"/>
                </a:solidFill>
                <a:latin typeface="Arial Narrow"/>
              </a:rPr>
              <a:t>El artículo 55 de la Ley Reglamentaria del Artículo 5° Constitucional (ejercicio de la profesiones en el Distrito Federal)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5280" y="1916280"/>
            <a:ext cx="826920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247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planes de preparación profesional, según la naturaleza de la profesión y de las necesidades sociales que se trate de satisfacer, </a:t>
            </a:r>
            <a:r>
              <a:rPr b="1" lang="es-MX" sz="2800" spc="-1" strike="noStrike" u="sng">
                <a:solidFill>
                  <a:srgbClr val="ff9900"/>
                </a:solidFill>
                <a:uFillTx/>
                <a:latin typeface="Arial"/>
              </a:rPr>
              <a:t>exigirán a los estudiante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de las profesiones a que se refiere esta Ley, </a:t>
            </a:r>
            <a:r>
              <a:rPr b="1" lang="es-MX" sz="2800" spc="-1" strike="noStrike" u="sng">
                <a:solidFill>
                  <a:srgbClr val="ff9900"/>
                </a:solidFill>
                <a:uFillTx/>
                <a:latin typeface="Arial"/>
              </a:rPr>
              <a:t>como requisito previo para otorgarles el título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, que presten Servicio Social durante un tiempo no menor de 6 meses ni mayor de dos añ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2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 Narrow"/>
              </a:rPr>
              <a:t>EXPOSICIÓN DE MOTIVOS</a:t>
            </a:r>
            <a:br>
              <a:rPr sz="2800"/>
            </a:br>
            <a:r>
              <a:rPr b="1" lang="es-MX" sz="2800" spc="-1" strike="noStrike">
                <a:solidFill>
                  <a:srgbClr val="420000"/>
                </a:solidFill>
                <a:latin typeface="Arial Narrow"/>
              </a:rPr>
              <a:t>ARTÍCULO 85 DEL REGLAMENTO DE LA LEY REGLAMENTARIA DEL ARTÍCULO 5° CONSTITUCIONAL RELATIVO AL EJERCICIO DE LAS PROFESIONES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Servicio Social de los estudiantes quedará al </a:t>
            </a:r>
            <a:r>
              <a:rPr b="1" lang="es-MX" sz="2800" spc="-1" strike="noStrike" u="sng">
                <a:solidFill>
                  <a:srgbClr val="ff9900"/>
                </a:solidFill>
                <a:uFillTx/>
                <a:latin typeface="Arial"/>
              </a:rPr>
              <a:t>cuidado y responsabilidad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de las escuelas de enseñanza profesional conforme a sus planes de estudi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084640"/>
            <a:ext cx="8642160" cy="155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legislación nacional atribuye a las instituciones de educación superior la competencia  de decidir modalidades, condiciones y características para cumplir con el servicio soci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 Narrow"/>
              </a:rPr>
              <a:t>REGLAMENTO DE SERVICIO SOCIAL A NIVEL DE LICENCIATURA DE LA UA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Su práctica debe enfocarse a la solución de problemas socialmente relevantes; es decir aquellas situaciones de marginación, pobreza y salubridad o ignorancia presentes en la vida cotidiana de las comunidades menos favorecidas y que requieren de la participación de profesionistas técnicos y sociales para avanzar en su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EL SERVICIO SOCIAL PARA LA UNIDAD CUAJIMALPA DE LA UA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 algn="just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Constituye una actividad formativa de carácter académic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 algn="just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vorece la inserción del alumno o del egresado en las prácticas profesionales para las cuales se habilitó durante su formación univers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 algn="just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picia su formación integral mediante la aplicación, verificación y evaluación de los conocimientos adquiridos durante su estancia en la Universidad, a problemas concretos de su ámbito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mueve el desarrollo de actitudes reflexivas, críticas y constructivas ante la problemática social, generando una conciencia de responsabilidad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EL SERVICIO SOCIAL PARA LA UNIDAD CUAJIMALPA DE LA UA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507520" cy="48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 algn="just">
              <a:lnSpc>
                <a:spcPct val="115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el objeto de que las acciones del Servicio Social constituyan opciones para responder a necesidades de la sociedad y dada la multicausalidad de los problemas de la realidad, la Unidad y las divisiones académicas </a:t>
            </a:r>
            <a:r>
              <a:rPr b="1" lang="es-MX" sz="2800" spc="-1" strike="noStrike" u="sng">
                <a:solidFill>
                  <a:srgbClr val="ff9900"/>
                </a:solidFill>
                <a:uFillTx/>
                <a:latin typeface="Arial"/>
              </a:rPr>
              <a:t>procurarán promover fundamentalmente programas y proyectos multi e interdisciplinario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orientados a satisfacer, sobre todo, las necesidades de los grupos menos favore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EL SERVICIO SOCIAL PARA LA UNIDAD CUAJIMALPA DE LA UA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DISPOSICIONES GENERALES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-389880" algn="just">
              <a:lnSpc>
                <a:spcPct val="100000"/>
              </a:lnSpc>
              <a:spcBef>
                <a:spcPts val="1049"/>
              </a:spcBef>
              <a:spcAft>
                <a:spcPts val="1225"/>
              </a:spcAft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umplir con los objetivos establecidos en el Reglamento de Servicio Social a Nivel de Licenciatura</a:t>
            </a: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 algn="just">
              <a:lnSpc>
                <a:spcPct val="100000"/>
              </a:lnSpc>
              <a:spcBef>
                <a:spcPts val="1049"/>
              </a:spcBef>
              <a:spcAft>
                <a:spcPts val="1225"/>
              </a:spcAft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rvicio social vinculado con el plan de estudios que cursa el alumno o egre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 algn="just">
              <a:lnSpc>
                <a:spcPct val="100000"/>
              </a:lnSpc>
              <a:spcBef>
                <a:spcPts val="1049"/>
              </a:spcBef>
              <a:spcAft>
                <a:spcPts val="1225"/>
              </a:spcAft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uración del servicio social: seis meses como mínimo y dos años como máximo ó 480 horas como mínimo.</a:t>
            </a: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 algn="just">
              <a:lnSpc>
                <a:spcPct val="100000"/>
              </a:lnSpc>
              <a:spcBef>
                <a:spcPts val="1049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17:41Z</dcterms:created>
  <dc:creator>Cuajimalpa</dc:creator>
  <dc:description/>
  <dc:language>en-US</dc:language>
  <cp:lastModifiedBy>Cuajimalpa</cp:lastModifiedBy>
  <dcterms:modified xsi:type="dcterms:W3CDTF">2008-06-25T17:04:40Z</dcterms:modified>
  <cp:revision>31</cp:revision>
  <dc:subject/>
  <dc:title>Cuajimalp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