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  <p:custShowLst>
    <p:custShow name="Presentación personalizada 1" id="0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0008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00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0008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D45DB-E061-46D6-B1FC-A5FD848A6D01}" type="slidenum">
              <a:rPr b="0" lang="es-MX" sz="1200" spc="-1" strike="noStrike">
                <a:solidFill>
                  <a:srgbClr val="800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51A3D-9507-4318-A1BF-094432AE0002}" type="slidenum">
              <a:rPr b="0" lang="es-MX" sz="1200" spc="-1" strike="noStrike">
                <a:solidFill>
                  <a:srgbClr val="800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5E520-7919-4A2A-8141-5DDC2989F212}" type="slidenum">
              <a:rPr b="0" lang="es-MX" sz="1200" spc="-1" strike="noStrike">
                <a:solidFill>
                  <a:srgbClr val="800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CDCCA-413A-4A0A-A4BE-A3944F92EE86}" type="slidenum">
              <a:rPr b="0" lang="es-MX" sz="1200" spc="-1" strike="noStrike">
                <a:solidFill>
                  <a:srgbClr val="800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31E6B-4B33-4852-9E1D-2E54019FA567}" type="slidenum">
              <a:rPr b="0" lang="es-MX" sz="1200" spc="-1" strike="noStrike">
                <a:solidFill>
                  <a:srgbClr val="800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3A08E-3C8C-4809-BE2F-EEDC71F10D85}" type="slidenum">
              <a:rPr b="0" lang="es-MX" sz="1200" spc="-1" strike="noStrike">
                <a:solidFill>
                  <a:srgbClr val="800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D870D-5072-4F29-A348-70C7A1170B88}" type="slidenum">
              <a:rPr b="0" lang="es-MX" sz="1200" spc="-1" strike="noStrike">
                <a:solidFill>
                  <a:srgbClr val="800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81CCA-699C-4FE0-AE0B-A8371AAA3F00}" type="slidenum">
              <a:rPr b="0" lang="es-MX" sz="1200" spc="-1" strike="noStrike">
                <a:solidFill>
                  <a:srgbClr val="800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FD703-9093-4197-BBC1-E57EBFA881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9CE7A-382F-46BB-9A39-839E66C237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223B0-DA0E-42A4-BC26-B4F9CCEF35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A15DA-261B-441D-AE23-AE9E7263F1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D1E704-8C19-453C-948F-51B96F3E5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417BEB-1DCD-4E03-B90F-4600A92BF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4CDE67-A62F-4CC8-A806-1136808DD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C19954-6081-4D36-8BD2-FDD9481C2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82EDE1-0DBD-4C07-8913-411B7DA7E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46FF16-FBDD-46BC-B541-FA3D71CC5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C028EF-124D-4541-82D1-93372381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B7F34-7E4C-4751-A2CD-42987FF4AA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571B34-4CC6-4FAE-B1B7-1189C219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7C2052-4836-4AA4-A9E6-A93C83CF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17EE73-1708-4C95-AA30-5EA6DE795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7A4134-1C9D-414B-9775-A63DE7D65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E17A3D-BE55-4FCB-8699-55CB06DC1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986E8-DC62-4BB6-952B-30C00B9E7C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7708F-98F5-4BDE-A4BD-E8EF7C6C0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414AD-962D-40E8-8F30-FB232F7EE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01FF2-E234-4965-9EC3-27AF6DB73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150DA-24EF-4C4D-B7B8-648DED7F8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B70DA-7BB0-4F2E-9511-D12839AA88C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99C1B-92AE-4F6C-AC0D-7DCAD0282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BA757-C8F0-4F13-9B0C-2FD0E916F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2B86D-69D0-4079-A4FD-54A4721A8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B9026-DF1D-45B2-9D24-756B72269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A91B0-0E61-446F-8601-984D04D97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91239-3709-44D5-A035-5EAE27A1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6F4B6-9CA2-4300-9830-03A59825D2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355F7-C137-4406-BD7B-CE3DC353E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E4B29-D8C9-4169-BF82-C65A25120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12D9A-EF2A-48D9-ADA3-3A234803B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C47FA-428A-4635-8197-9CFDE12E618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9BBE6-EB34-4416-AF05-6F8224900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5A1AD-50EB-4AE3-9C9F-2539BF562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405BE-D4AF-4825-91A9-10ED6485A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14845-8C4D-4A14-9659-33E68DEB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48A03-5814-4647-B36B-C44EEBD7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815DF-9E9D-4FBB-8F78-3D944C91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86614-F5A7-4975-8C5C-6FAB1280B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CA80C-83AF-4001-9629-3BD1F8F3D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A6773-05AB-4865-91FA-E068A2C91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2D3DE-BEFD-40DC-BE4F-F2AD4E164A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543A0-8C49-4B7B-A83A-11536ACC46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E939E-36E0-490D-9F04-7D349FE645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A3629-4CAE-43D4-B716-E46B2585F9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69348-813D-476F-9848-FBAD4EBD38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8"/>
          <p:cNvSpPr/>
          <p:nvPr/>
        </p:nvSpPr>
        <p:spPr>
          <a:xfrm>
            <a:off x="39434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66cc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01AC1-6655-40AB-9C1F-19F2281200F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50000">
                <a:srgbClr val="762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6" name="Line 8"/>
          <p:cNvSpPr/>
          <p:nvPr/>
        </p:nvSpPr>
        <p:spPr>
          <a:xfrm>
            <a:off x="468360" y="333360"/>
            <a:ext cx="80773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gradFill rotWithShape="0">
            <a:gsLst>
              <a:gs pos="0">
                <a:srgbClr val="764718"/>
              </a:gs>
              <a:gs pos="50000">
                <a:srgbClr val="ff9933"/>
              </a:gs>
              <a:gs pos="100000">
                <a:srgbClr val="7647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grpSp>
        <p:nvGrpSpPr>
          <p:cNvPr id="48" name="Rectangle 10"/>
          <p:cNvGrpSpPr/>
          <p:nvPr/>
        </p:nvGrpSpPr>
        <p:grpSpPr>
          <a:xfrm>
            <a:off x="-6480" y="4565520"/>
            <a:ext cx="244440" cy="2298960"/>
            <a:chOff x="-6480" y="4565520"/>
            <a:chExt cx="244440" cy="2298960"/>
          </a:xfrm>
        </p:grpSpPr>
        <p:pic>
          <p:nvPicPr>
            <p:cNvPr id="49" name="Rectangle 10" descr=""/>
            <p:cNvPicPr/>
            <p:nvPr/>
          </p:nvPicPr>
          <p:blipFill>
            <a:blip r:embed="rId2"/>
            <a:stretch/>
          </p:blipFill>
          <p:spPr>
            <a:xfrm>
              <a:off x="-6480" y="4565520"/>
              <a:ext cx="244440" cy="22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0" y="4572000"/>
              <a:ext cx="22860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</p:grpSp>
      <p:sp>
        <p:nvSpPr>
          <p:cNvPr id="51" name="Rectangle 11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39434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1"/>
          <p:cNvSpPr/>
          <p:nvPr/>
        </p:nvSpPr>
        <p:spPr>
          <a:xfrm>
            <a:off x="0" y="3200400"/>
            <a:ext cx="9144000" cy="3657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9434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91" name="Rectangle 29"/>
          <p:cNvSpPr/>
          <p:nvPr/>
        </p:nvSpPr>
        <p:spPr>
          <a:xfrm>
            <a:off x="39434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92" name="Rectangle 31"/>
          <p:cNvSpPr/>
          <p:nvPr/>
        </p:nvSpPr>
        <p:spPr>
          <a:xfrm>
            <a:off x="39434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93" name="Rectangle 35"/>
          <p:cNvSpPr/>
          <p:nvPr/>
        </p:nvSpPr>
        <p:spPr>
          <a:xfrm>
            <a:off x="39434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94" name="Rectangle 40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95" name="Object 39"/>
          <p:cNvGraphicFramePr/>
          <p:nvPr/>
        </p:nvGraphicFramePr>
        <p:xfrm>
          <a:off x="3492360" y="476280"/>
          <a:ext cx="2038320" cy="1371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Object 3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92360" y="476280"/>
                    <a:ext cx="203832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80BD5-F5A9-45C9-A968-623CA0BAEB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137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8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9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</p:grpSp>
      <p:sp>
        <p:nvSpPr>
          <p:cNvPr id="140" name="Rectangle 11"/>
          <p:cNvSpPr/>
          <p:nvPr/>
        </p:nvSpPr>
        <p:spPr>
          <a:xfrm>
            <a:off x="0" y="3200400"/>
            <a:ext cx="9144000" cy="3657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39434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42" name="Rectangle 13"/>
          <p:cNvSpPr/>
          <p:nvPr/>
        </p:nvSpPr>
        <p:spPr>
          <a:xfrm>
            <a:off x="39434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43" name="Rectangle 14"/>
          <p:cNvSpPr/>
          <p:nvPr/>
        </p:nvSpPr>
        <p:spPr>
          <a:xfrm>
            <a:off x="39434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44" name="Rectangle 15"/>
          <p:cNvSpPr/>
          <p:nvPr/>
        </p:nvSpPr>
        <p:spPr>
          <a:xfrm>
            <a:off x="39434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pic>
        <p:nvPicPr>
          <p:cNvPr id="145" name="Picture 16" descr="index_r2_c10"/>
          <p:cNvPicPr/>
          <p:nvPr/>
        </p:nvPicPr>
        <p:blipFill>
          <a:blip r:embed="rId2"/>
          <a:stretch/>
        </p:blipFill>
        <p:spPr>
          <a:xfrm>
            <a:off x="0" y="0"/>
            <a:ext cx="9144000" cy="12682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66cc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F1090-A68D-4D7C-9C3B-8591140D3C7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5640" y="357300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00"/>
                </a:solidFill>
                <a:latin typeface="Arial Narrow"/>
              </a:rPr>
              <a:t>COMISIÓN PROYECTO DE PLAN DE DESARROLLO DE LA </a:t>
            </a:r>
            <a:br>
              <a:rPr sz="3600"/>
            </a:br>
            <a:r>
              <a:rPr b="1" i="1" lang="es-ES" sz="3600" spc="-1" strike="noStrike">
                <a:solidFill>
                  <a:srgbClr val="000000"/>
                </a:solidFill>
                <a:latin typeface="Arial Narrow"/>
              </a:rPr>
              <a:t>UNIDAD CUAJIMALPA 2008-2017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39434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1085760" y="3011400"/>
            <a:ext cx="69724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97" name="Text Box 10"/>
          <p:cNvSpPr/>
          <p:nvPr/>
        </p:nvSpPr>
        <p:spPr>
          <a:xfrm>
            <a:off x="6731640" y="6237360"/>
            <a:ext cx="203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Diciembre, 2008</a:t>
            </a:r>
            <a:endParaRPr b="0" lang="en-US" sz="20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98" name="Rectangle 11"/>
          <p:cNvSpPr/>
          <p:nvPr/>
        </p:nvSpPr>
        <p:spPr>
          <a:xfrm>
            <a:off x="1914840" y="1914120"/>
            <a:ext cx="525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entury Gothic"/>
              </a:rPr>
              <a:t>UNIVERSIDAD AUTÓNOMA METROPOLITANA</a:t>
            </a:r>
            <a:endParaRPr b="0" lang="en-US" sz="1800" spc="-1" strike="noStrike">
              <a:solidFill>
                <a:srgbClr val="b2b2b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entury Gothic"/>
              </a:rPr>
              <a:t>UNIDAD CUAJIMALPA</a:t>
            </a:r>
            <a:endParaRPr b="0" lang="en-US" sz="1800" spc="-1" strike="noStrike">
              <a:solidFill>
                <a:srgbClr val="b2b2b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2b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entury Gothic"/>
              </a:rPr>
              <a:t>CONSEJO ACADÉMICO</a:t>
            </a:r>
            <a:endParaRPr b="0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3"/>
          <p:cNvSpPr/>
          <p:nvPr/>
        </p:nvSpPr>
        <p:spPr>
          <a:xfrm>
            <a:off x="357120" y="285840"/>
            <a:ext cx="828684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0000"/>
                </a:solidFill>
                <a:latin typeface="Arial Unicode MS"/>
              </a:rPr>
              <a:t>Objetivo: 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undir el Proyecto de Plan de Desarrollo de la Unidad Cuajimalpa 2008-2017 a la comunidad universitaria, así como de recibir y sistematizar sus opiniones e incorporar al documento las que se consideren pertinentes, para su presentación ante el Consejo Académic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428760" y="2928960"/>
            <a:ext cx="4176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ntegrantes</a:t>
            </a:r>
            <a:r>
              <a:rPr b="1" lang="es-MX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b2b2b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tro. Gonzalo Javier Alarcón V.</a:t>
            </a:r>
            <a:endParaRPr b="0" lang="en-US" sz="20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. Miriam Alfie C.</a:t>
            </a:r>
            <a:endParaRPr b="0" lang="en-US" sz="20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. José Campos T.</a:t>
            </a:r>
            <a:endParaRPr b="0" lang="en-US" sz="20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. Laura Carballido C.</a:t>
            </a:r>
            <a:endParaRPr b="0" lang="en-US" sz="20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. Carlos Casimiro A.</a:t>
            </a:r>
            <a:endParaRPr b="0" lang="en-US" sz="20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. Vicente Castellanos C.</a:t>
            </a:r>
            <a:endParaRPr b="0" lang="en-US" sz="20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. Sergio Revah M.</a:t>
            </a:r>
            <a:endParaRPr b="0" lang="en-US" sz="20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4857840" y="2928960"/>
            <a:ext cx="388944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sesores:</a:t>
            </a:r>
            <a:endParaRPr b="0" lang="en-US" sz="2000" spc="-1" strike="noStrike">
              <a:solidFill>
                <a:srgbClr val="b2b2b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. Manuel Rodríguez V.</a:t>
            </a:r>
            <a:endParaRPr b="0" lang="en-US" sz="20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. Julio Rubio O.</a:t>
            </a:r>
            <a:endParaRPr b="0" lang="en-US" sz="20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. Miguel Angel Sámano R.</a:t>
            </a:r>
            <a:endParaRPr b="0" lang="en-US" sz="20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. David Torres M.</a:t>
            </a:r>
            <a:endParaRPr b="0" lang="en-US" sz="20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2006640" y="5786280"/>
            <a:ext cx="463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ordinador: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. Oscar Comas Rodríguez</a:t>
            </a:r>
            <a:endParaRPr b="0" lang="en-US" sz="20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546480" y="6357960"/>
            <a:ext cx="861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cha limite para presentar el dictamen correspondiente: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</a:rPr>
              <a:t>14 de noviembre de 2008</a:t>
            </a:r>
            <a:endParaRPr b="0" lang="en-US" sz="20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68360" y="1986480"/>
            <a:ext cx="820908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812880" indent="-355680" algn="just">
              <a:lnSpc>
                <a:spcPct val="100000"/>
              </a:lnSpc>
              <a:buClr>
                <a:srgbClr val="000000"/>
              </a:buClr>
              <a:buFont typeface="Arial Narrow"/>
              <a:buAutoNum type="alphaLcParenR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  <a:p>
            <a:pPr lvl="1" marL="812880" indent="-355680" algn="just">
              <a:lnSpc>
                <a:spcPct val="100000"/>
              </a:lnSpc>
              <a:buClr>
                <a:srgbClr val="000000"/>
              </a:buClr>
              <a:buFont typeface="Arial Narrow"/>
              <a:buAutoNum type="alphaLcParenR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ifusión del proyecto de Plan de Desarrollo de la Unidad Cuajimalpa 2008-2017 presentado ante el Consejo Académico, en la página web de la Unidad y en la biblioteca</a:t>
            </a:r>
            <a:r>
              <a:rPr b="0" lang="es-MX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.</a:t>
            </a:r>
            <a:endParaRPr b="0" lang="en-US" sz="1800" spc="-1" strike="noStrike">
              <a:solidFill>
                <a:srgbClr val="b2b2b2"/>
              </a:solidFill>
              <a:latin typeface="Times New Roman"/>
            </a:endParaRPr>
          </a:p>
          <a:p>
            <a:pPr lvl="1" marL="812880" indent="-355680" algn="just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2b2"/>
              </a:solidFill>
              <a:latin typeface="Times New Roman"/>
            </a:endParaRPr>
          </a:p>
          <a:p>
            <a:pPr lvl="1" marL="812880" indent="-355680" algn="just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2b2"/>
              </a:solidFill>
              <a:latin typeface="Times New Roman"/>
            </a:endParaRPr>
          </a:p>
          <a:p>
            <a:pPr lvl="1" marL="812880" indent="-355680" algn="just">
              <a:lnSpc>
                <a:spcPct val="100000"/>
              </a:lnSpc>
              <a:buClr>
                <a:srgbClr val="000000"/>
              </a:buClr>
              <a:buFont typeface="Arial Narrow"/>
              <a:buAutoNum type="alphaLcParenR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laboración de un cartel por parte de los alumnos de la Licenciatura en Diseño que motivara la participación de los alumnos en la consulta.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14200" y="692280"/>
            <a:ext cx="362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0000"/>
                </a:solidFill>
                <a:latin typeface="Times New Roman"/>
              </a:rPr>
              <a:t>Primera etapa de difusión:</a:t>
            </a:r>
            <a:r>
              <a:rPr b="0" lang="es-MX" sz="2400" spc="-1" strike="noStrike">
                <a:solidFill>
                  <a:srgbClr val="b2b2b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68360" y="577080"/>
            <a:ext cx="8207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b2b2b2"/>
                </a:solidFill>
                <a:latin typeface="Arial Narrow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tegración de una subcomisión miembros: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r. Vicente Castellanos Cerda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r. Sergio Revah Moiseev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r. Julio Rubio Oca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r. David Torres Mejía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inco reuniones de trabajo: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 Narro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visión y mejora del contenido del documento.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 Narro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ngruencia y consistencia del documento.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 Narro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ctualización e incorporación de información que sustentara los datos presentados para cada uno de los capítulos que integran el documento.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68360" y="432000"/>
            <a:ext cx="8209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 Narrow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ustitución del documento publicado y campaña de difusión del </a:t>
            </a:r>
            <a:r>
              <a:rPr b="0" lang="es-ES_tradnl" sz="24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PDI 2008-2018.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 Narrow"/>
              </a:rPr>
              <a:t>ESTRATEGIAS 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Narro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ifusión del proyecto de Plan de Desarrollo Institucional de la Unidad Cuajimalpa 2008-2018, en la </a:t>
            </a:r>
            <a:r>
              <a:rPr b="0" lang="es-ES_tradnl" sz="24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página web</a:t>
            </a:r>
            <a:r>
              <a:rPr b="0" lang="es-ES_tradnl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de la Unidad y en la </a:t>
            </a:r>
            <a:r>
              <a:rPr b="0" lang="es-ES_tradnl" sz="24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biblioteca</a:t>
            </a:r>
            <a:r>
              <a:rPr b="0" lang="es-MX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</a:t>
            </a:r>
            <a:endParaRPr b="0" lang="en-US" sz="1800" spc="-1" strike="noStrike">
              <a:solidFill>
                <a:srgbClr val="b2b2b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b) Reunión del Coordinador de la Comisión con </a:t>
            </a:r>
            <a:r>
              <a:rPr b="0" lang="es-ES_tradnl" sz="24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coordinadores de estudio de licenciatura y representantes del personal académico</a:t>
            </a:r>
            <a:r>
              <a:rPr b="0" lang="es-ES_tradnl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ante el Consejo Académico, para aclarar dudas sobre el documento e invitarlos a </a:t>
            </a:r>
            <a:r>
              <a:rPr b="0" lang="es-ES_tradnl" sz="24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difundir el proyecto entre los académicos y los alumnos</a:t>
            </a:r>
            <a:r>
              <a:rPr b="0" lang="es-ES_tradnl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) Difusión en las </a:t>
            </a:r>
            <a:r>
              <a:rPr b="0" lang="es-ES_tradnl" sz="24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aulas</a:t>
            </a:r>
            <a:r>
              <a:rPr b="0" lang="es-ES_tradnl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del documento y aclaración de dudas por parte de los integrantes de la comisión para </a:t>
            </a:r>
            <a:r>
              <a:rPr b="0" lang="es-ES_tradnl" sz="24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recabar los comentarios</a:t>
            </a:r>
            <a:r>
              <a:rPr b="0" lang="es-ES_tradnl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de los alumnos.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468360" y="476280"/>
          <a:ext cx="8496000" cy="5838840"/>
        </p:xfrm>
        <a:graphic>
          <a:graphicData uri="http://schemas.openxmlformats.org/drawingml/2006/table">
            <a:tbl>
              <a:tblPr/>
              <a:tblGrid>
                <a:gridCol w="4032000"/>
                <a:gridCol w="4464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0000"/>
                          </a:solidFill>
                          <a:latin typeface="Arial Narrow"/>
                          <a:ea typeface="Times New Roman"/>
                        </a:rPr>
                        <a:t>Nombre</a:t>
                      </a:r>
                      <a:endParaRPr b="0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0000"/>
                          </a:solidFill>
                          <a:latin typeface="Arial Narrow"/>
                          <a:ea typeface="Times New Roman"/>
                        </a:rPr>
                        <a:t>Departamento</a:t>
                      </a:r>
                      <a:endParaRPr b="0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r. Carlos Barrón Romero</a:t>
                      </a:r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presentante del personal </a:t>
                      </a:r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cadémico.</a:t>
                      </a:r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oordinador de Licenciatura</a:t>
                      </a:r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partamento de Matemáticas </a:t>
                      </a:r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plicadas y Sistemas</a:t>
                      </a:r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r. José Campos Terán</a:t>
                      </a:r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presentante del personal </a:t>
                      </a:r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cadémico.</a:t>
                      </a:r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partamento de Procesos y </a:t>
                      </a:r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ecnología</a:t>
                      </a:r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ra. Laura Carballido Coria</a:t>
                      </a:r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presentante del personal </a:t>
                      </a:r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cadémico.</a:t>
                      </a:r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partamento de Ciencias Sociales</a:t>
                      </a:r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r. Jorge Culebro Moreno</a:t>
                      </a:r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presentante del personal </a:t>
                      </a:r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cadémico.</a:t>
                      </a:r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oordinador de Licenciatura</a:t>
                      </a:r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partamento de Estudios </a:t>
                      </a:r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stitucionales</a:t>
                      </a:r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"/>
          <p:cNvGraphicFramePr/>
          <p:nvPr/>
        </p:nvGraphicFramePr>
        <p:xfrm>
          <a:off x="395280" y="404640"/>
          <a:ext cx="8229600" cy="6294600"/>
        </p:xfrm>
        <a:graphic>
          <a:graphicData uri="http://schemas.openxmlformats.org/drawingml/2006/table">
            <a:tbl>
              <a:tblPr/>
              <a:tblGrid>
                <a:gridCol w="3629160"/>
                <a:gridCol w="4600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0000"/>
                          </a:solidFill>
                          <a:latin typeface="Arial Narrow"/>
                          <a:ea typeface="Times New Roman"/>
                        </a:rPr>
                        <a:t>Nombre</a:t>
                      </a:r>
                      <a:endParaRPr b="0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0000"/>
                          </a:solidFill>
                          <a:latin typeface="Arial Narrow"/>
                          <a:ea typeface="Times New Roman"/>
                        </a:rPr>
                        <a:t>Departamento</a:t>
                      </a:r>
                      <a:endParaRPr b="0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ra. Caridad García </a:t>
                      </a:r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Hernández</a:t>
                      </a:r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oordinador de Licenciatura</a:t>
                      </a:r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partamento de Ciencias de la </a:t>
                      </a:r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omunicación.</a:t>
                      </a:r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ra. Esperanza García </a:t>
                      </a:r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López</a:t>
                      </a:r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oordinador de Licenciatura</a:t>
                      </a:r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partamento de Teoría y Procesos </a:t>
                      </a:r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l Diseño.</a:t>
                      </a:r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r. Oswaldo González </a:t>
                      </a:r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Gaxiola </a:t>
                      </a:r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oordinador de Licenciatura</a:t>
                      </a:r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partamento de Matemáticas </a:t>
                      </a:r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plicadas y Sistemas</a:t>
                      </a:r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ra. Marcia Morales Ibarría</a:t>
                      </a:r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oordinador de Licenciatura</a:t>
                      </a:r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partamento de Procesos y </a:t>
                      </a:r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ecnología</a:t>
                      </a:r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r. Miguel Ángel Sámano </a:t>
                      </a:r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odríguez</a:t>
                      </a:r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presentante del personal </a:t>
                      </a:r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cadémico.</a:t>
                      </a:r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partamento de Ciencias de la </a:t>
                      </a:r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omunicación</a:t>
                      </a:r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784320" y="620640"/>
            <a:ext cx="15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 Narrow"/>
              </a:rPr>
              <a:t>CONSULTA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4000" y="1914120"/>
            <a:ext cx="856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proximadamente 50 comentarios de profesores, alumnos y personal administrativo, relacionados con diversos objetivos estratégicos. 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istematización e incorporación al documento.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4000" y="400356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a Comisión se reunió el 18 de julio, el 6 y 25 de agosto, el 27 de octubre y el 18 de noviembre, fecha en la que concluyó sus trabajos.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468360" y="828720"/>
            <a:ext cx="8351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D I C T A M E N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UNICO.</a:t>
            </a:r>
            <a:r>
              <a:rPr b="0" lang="es-ES_tradnl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 recomienda al Consejo Académico de la Unidad Cuajimalpa aprobar el proyecto de Plan de Desarrollo Institucional </a:t>
            </a:r>
            <a:r>
              <a:rPr b="0" lang="es-E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 la Unidad Cuajimalpa</a:t>
            </a:r>
            <a:r>
              <a:rPr b="0" lang="es-ES_tradnl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2008-2018.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2T05:59:00Z</dcterms:created>
  <dc:creator>Office 2000</dc:creator>
  <dc:description/>
  <dc:language>en-US</dc:language>
  <cp:lastModifiedBy>Cuajimalpa</cp:lastModifiedBy>
  <dcterms:modified xsi:type="dcterms:W3CDTF">2008-12-10T17:42:43Z</dcterms:modified>
  <cp:revision>326</cp:revision>
  <dc:subject/>
  <dc:title>Proceso de Consultoría</dc:title>
</cp:coreProperties>
</file>