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922D-228B-41EE-9066-44F39C8DCD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1CB-6866-4702-8ECE-17B05804B2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F719-CFD3-4F85-B534-DEF4D01843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BA4-63D3-4BC8-9A7C-32E4106AAF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15BB-0DC9-41F9-8F0D-2A367DE780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872-4897-4831-BD7A-35DBFB8198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640-7334-415C-9CED-03502931F2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BE0A-E652-4CD5-911B-2472B269E1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3E9-FA2C-4E80-951D-0A4A016C62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B2CE-20E4-4653-976A-853BAA5E8C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08CB-952F-44B5-AD6F-BBF63E7373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C39-0AFE-4727-9AE0-56C13BFF0E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371-CAEB-4E2E-B44F-51C34CC7C0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716-F708-4BF7-92B3-072295E051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C0C3-9D27-44F9-A616-794B0EB1AB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38B-1C89-447B-B955-253B59219B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F64-AA1D-4FA2-88EF-A13266551E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3E90-ED32-485B-8809-C75F17B458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6E8-8C3A-4AC0-8D6E-F5B7E13A57A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D99-60FB-4028-A139-8E0721E749F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6BF3-C41F-4807-9489-CB0843B4F41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1F2A-7C1E-4DE9-B304-A4298E6FB3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18E4-6AE8-4C73-A990-D67AA750BC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5EA4-A0F8-4641-BE62-90075E494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4DB8-A298-4A0C-A23D-05D4054F1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75CC-6890-4995-A176-1555AF4B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5C39-8996-4FE1-807D-0628DCB70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4F64F-AB06-44E3-998E-A8BE5CC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59138-E94C-4A03-A2C5-3AD6D0AA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25B92-459F-4573-A84B-BE4CFFB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03F2E-EC79-40BB-93AB-9FB5CB4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9AF0A-0B9C-4542-A541-85C2478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92200-33C3-427C-A6CD-91715B1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DD67A-F4CB-49BC-8EDF-2EFF621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0E2D-B641-49E1-8B7D-BD635E62D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827B4-E947-40B4-88E1-A8A12ED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8F32A-A2BE-491E-A5FD-2AF6936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28F59-FBD3-4175-A01F-D51F1EB6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0F74B-CDAF-495E-B431-D8155F4E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7D05D-8665-43D6-8AD7-BFD91739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0E7-E39B-4D3F-9D7E-3E63D0ABD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48F-3A3A-4EE0-9697-2BEACFDD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24E-5DBF-44B3-934D-019C5153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DC1-2A79-4054-9FE5-B555133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D24A-2098-4992-9881-A8009B1A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66F8-9B91-4E99-8284-4ECE58DC70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F40A-CF6C-480A-97A4-336DC59E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CA74-7B0B-4E0D-99F5-D31526BE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9764-3E06-4E62-9A27-82F07045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A9D1-33BB-46F8-98AF-B2C0961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9F0-5F65-4D6D-91C0-CD02E87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7C4-1B93-4E88-AFB0-3B89FAB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FB19-8D08-45A8-A087-F0B05881C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416A-9CCE-419F-A693-D6C0B65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26F1-736E-4D12-B4C5-86910C3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064E-EAA1-4394-B9AE-0D6A824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E492-8AAC-45B8-8A45-64D61E02CF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59CC-854A-4250-A2A1-B9125832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FA90-45DF-4ED6-A347-50FFFBC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BA3D-AB86-4976-8C1B-E2849092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24FB-D724-4469-A706-891756F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FF2C-D3F9-4FA3-9F94-4747245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5B32-4515-44CE-9281-466DEF9E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6FAB-63F8-4CA2-87F7-15F9D9E7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6079-F4C7-4F5D-A5D3-04B789FC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ACEA-1A94-4BD2-B6C3-2F2F4C48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DD8D-4F69-4D3D-96A2-4D805DD70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5C87-FF21-4FAE-AA70-1B906E932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7D2B-5716-4E07-80FB-43ABD5335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0F78-2336-4787-A8C5-699682D85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B0E4-D1BF-41FB-A4AE-AEA08316E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4D91-D2A8-4987-802D-BFE2D7B5F48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68360" y="333360"/>
            <a:ext cx="8077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48" name="Rectangle 10"/>
          <p:cNvGrpSpPr/>
          <p:nvPr/>
        </p:nvGrpSpPr>
        <p:grpSpPr>
          <a:xfrm>
            <a:off x="-6480" y="4565520"/>
            <a:ext cx="244440" cy="2298960"/>
            <a:chOff x="-6480" y="4565520"/>
            <a:chExt cx="244440" cy="2298960"/>
          </a:xfrm>
        </p:grpSpPr>
        <p:pic>
          <p:nvPicPr>
            <p:cNvPr id="49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4565520"/>
              <a:ext cx="24444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4572000"/>
              <a:ext cx="228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51" name="Rectangle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95" name="Object 39"/>
          <p:cNvGraphicFramePr/>
          <p:nvPr/>
        </p:nvGraphicFramePr>
        <p:xfrm>
          <a:off x="3492360" y="476280"/>
          <a:ext cx="20383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476280"/>
                    <a:ext cx="2038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EF8-12AA-4D63-B168-174F5071A1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145" name="Picture 16" descr="index_r2_c10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E57-6701-4966-98C6-B609F5364FF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573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LAN DE DESARROLLO INSTITUCIONAL</a:t>
            </a:r>
            <a:br>
              <a:rPr sz="3600"/>
            </a:b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 2008-20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943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085760" y="3011400"/>
            <a:ext cx="6972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731640" y="6237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ciembre, 2008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914840" y="1914120"/>
            <a:ext cx="52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VERSIDAD AUTÓNOMA METROPOLITAN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IDAD CUAJIMALPA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CONSEJO ACADÉMICO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158320" cy="39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Valores</a:t>
            </a:r>
            <a:br>
              <a:rPr sz="3600"/>
            </a:b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br>
              <a:rPr sz="3600"/>
            </a:b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Misión</a:t>
            </a:r>
            <a:br>
              <a:rPr sz="3600"/>
            </a:b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br>
              <a:rPr sz="3600"/>
            </a:b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Líneas Rectoras</a:t>
            </a:r>
            <a:br>
              <a:rPr sz="3600"/>
            </a:b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s-MX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908000" y="476280"/>
            <a:ext cx="5257800" cy="57636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6935" h="21600">
                <a:moveTo>
                  <a:pt x="0" y="0"/>
                </a:moveTo>
                <a:lnTo>
                  <a:pt x="196935" y="0"/>
                </a:lnTo>
                <a:lnTo>
                  <a:pt x="196935" y="21600"/>
                </a:lnTo>
                <a:lnTo>
                  <a:pt x="0" y="21600"/>
                </a:lnTo>
                <a:close/>
              </a:path>
              <a:path fill="lightenLess" w="196935" h="21600">
                <a:moveTo>
                  <a:pt x="0" y="0"/>
                </a:moveTo>
                <a:lnTo>
                  <a:pt x="196935" y="0"/>
                </a:lnTo>
                <a:lnTo>
                  <a:pt x="195535" y="1400"/>
                </a:lnTo>
                <a:lnTo>
                  <a:pt x="1400" y="1400"/>
                </a:lnTo>
                <a:close/>
              </a:path>
              <a:path fill="darken" w="196935" h="21600">
                <a:moveTo>
                  <a:pt x="196935" y="0"/>
                </a:moveTo>
                <a:lnTo>
                  <a:pt x="196935" y="21600"/>
                </a:lnTo>
                <a:lnTo>
                  <a:pt x="195535" y="20200"/>
                </a:lnTo>
                <a:lnTo>
                  <a:pt x="195535" y="1400"/>
                </a:lnTo>
                <a:close/>
              </a:path>
              <a:path fill="darkenLess" w="196935" h="21600">
                <a:moveTo>
                  <a:pt x="19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535" y="20200"/>
                </a:lnTo>
                <a:close/>
              </a:path>
              <a:path fill="lighten" w="19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II. VALORES, MISIÓN, LÍNEAS RECTORAS Y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SIÓN 2018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2627280" y="5084640"/>
            <a:ext cx="4033800" cy="914400"/>
          </a:xfrm>
          <a:prstGeom prst="downArrowCallout">
            <a:avLst>
              <a:gd name="adj1" fmla="val 110295"/>
              <a:gd name="adj2" fmla="val 110285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VISIÓN 2018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413000"/>
          <a:ext cx="4176720" cy="475452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V.1 Oferta educativa y población escolar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V.2 Programas de apoyo a la formación integral y permanencia de los alumn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. Apoyo Académico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. Movilidad 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. Enseñanza de lenguas extranjera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. Actividades culturales y deportiva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. Beca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V.3 Órganos colegiad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AutoShape 75"/>
          <p:cNvSpPr/>
          <p:nvPr/>
        </p:nvSpPr>
        <p:spPr>
          <a:xfrm>
            <a:off x="1979640" y="549360"/>
            <a:ext cx="5257800" cy="64764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5272" h="21600">
                <a:moveTo>
                  <a:pt x="0" y="0"/>
                </a:moveTo>
                <a:lnTo>
                  <a:pt x="175272" y="0"/>
                </a:lnTo>
                <a:lnTo>
                  <a:pt x="175272" y="21600"/>
                </a:lnTo>
                <a:lnTo>
                  <a:pt x="0" y="21600"/>
                </a:lnTo>
                <a:close/>
              </a:path>
              <a:path fill="lightenLess" w="175272" h="21600">
                <a:moveTo>
                  <a:pt x="0" y="0"/>
                </a:moveTo>
                <a:lnTo>
                  <a:pt x="175272" y="0"/>
                </a:lnTo>
                <a:lnTo>
                  <a:pt x="173872" y="1400"/>
                </a:lnTo>
                <a:lnTo>
                  <a:pt x="1400" y="1400"/>
                </a:lnTo>
                <a:close/>
              </a:path>
              <a:path fill="darken" w="175272" h="21600">
                <a:moveTo>
                  <a:pt x="175272" y="0"/>
                </a:moveTo>
                <a:lnTo>
                  <a:pt x="175272" y="21600"/>
                </a:lnTo>
                <a:lnTo>
                  <a:pt x="173872" y="20200"/>
                </a:lnTo>
                <a:lnTo>
                  <a:pt x="173872" y="1400"/>
                </a:lnTo>
                <a:close/>
              </a:path>
              <a:path fill="darkenLess" w="175272" h="21600">
                <a:moveTo>
                  <a:pt x="17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872" y="20200"/>
                </a:lnTo>
                <a:close/>
              </a:path>
              <a:path fill="lighten" w="17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V. UM PRIMER DIAGNÓSTICO GENERAL Y LOS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OS A SUPERAR EN EL MEDIANO PLAZO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27" name="Text Box 77"/>
          <p:cNvSpPr/>
          <p:nvPr/>
        </p:nvSpPr>
        <p:spPr>
          <a:xfrm>
            <a:off x="527220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28" name="Text Box 79"/>
          <p:cNvSpPr/>
          <p:nvPr/>
        </p:nvSpPr>
        <p:spPr>
          <a:xfrm>
            <a:off x="4788000" y="1413000"/>
            <a:ext cx="4070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IV.4 Planta académica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ción y aplicación del conocimiento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ción académica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empeño del personal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adémico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IV.5 Gestión académica y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 Narrow"/>
                <a:ea typeface="Times New Roman"/>
              </a:rPr>
              <a:t>Administrativa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servicios de apoyo a la academia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de información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icionamiento de la Unidad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inculación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29" name="Text Box 80"/>
          <p:cNvSpPr/>
          <p:nvPr/>
        </p:nvSpPr>
        <p:spPr>
          <a:xfrm>
            <a:off x="3203640" y="6338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RETOS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95280" y="907920"/>
          <a:ext cx="8507520" cy="5042160"/>
        </p:xfrm>
        <a:graphic>
          <a:graphicData uri="http://schemas.openxmlformats.org/drawingml/2006/table">
            <a:tbl>
              <a:tblPr/>
              <a:tblGrid>
                <a:gridCol w="85075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RTALEZA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tenecer a una institución pública de educación superior de prestigio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r la primera universidad pública que brinda una oferta educativa competitiva y de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lidad en la zona poniente de la ciudad de México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un espacio  para la ubicación definitiva de la Un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un modelo educativo que ha incorporado las tendencias innovadoras de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 educación superior en el mundo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 promueven nuevas formas de interacción del conocimiento que responden a la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ecesidades presentes y futuras de la sociedad del conocimiento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frecer programas educativos de licenciatura y posgrado pertinentes, innovadore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y de calidad, de acuerdo con el modelo educativo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36480" y="836640"/>
          <a:ext cx="8256600" cy="5486400"/>
        </p:xfrm>
        <a:graphic>
          <a:graphicData uri="http://schemas.openxmlformats.org/drawingml/2006/table">
            <a:tbl>
              <a:tblPr/>
              <a:tblGrid>
                <a:gridCol w="825660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RTALEZAS</a:t>
                      </a:r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una planta académica en expansión y con un elevado nivel de habilitación  que coadyuva al desarrollo del proyecto académico de la Un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rganizar la investigación con base en Cuerpos Académicos que atienden problemas  complejos y relevantes para la ciencia y la socie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capacidades para responder exitosamente a las diversas convocatorias para la obtención de recursos adicionales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órganos personales e instancias de apoyo con amplia trayectoria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a y experiencia en la conducción y gestión universitaria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xiste el compromiso y la capacidad para operar de manera eficiente el proyecto educativo de la Un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 Narrow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 alto índice de retención de la matrícula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8360" y="343080"/>
          <a:ext cx="8424720" cy="62179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una legislación que no contempla las características de una Unidad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y no permite responder con oportunidad a las necesidades  del proyecto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démico 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perar en diferentes sedes provisionales lo que dificulta el desarrollo de la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tividades de docencia, investigación y preservación y difusión de la cultura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sistema para la obtención de recursos económicos adicionales al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bsidio y a los canales tradicionales de financiamiento, que permitan contar con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a solidez financiera que sustente la operación y respaldo de los programa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cionales prioritarios y la consecución de sus objetivos y metas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programa para convertir a la Unidad en un polo de desarrollo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ientífico y cultural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programa de comunicación social que apoye el desarrollo del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yecto académico de la Unidad Cuajimalpa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programa que promueva el desarrollo sustentable como línea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tora del proyecto educativo de la Un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uficiente nivel de desarrollo de un sistema de información que contribuya al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joramiento de la gestión universitaria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95280" y="404640"/>
          <a:ext cx="8229600" cy="60962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sistema que promueva la equidad en el ingreso, la permanencia y el egreso de los alumnos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sistema de certificación y evaluación del desempeño de la gestión administrativa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un programa integral de vinculación 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zago en la oferta de programas de posgrado de la Un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mora de  los profesores y alumnos en la adopción de los elementos fundamentales pedagógicos y didácticos del modelo educativo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zago en la instrumentación de programas de apoyo que desarrollen materiale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dácticos utilizando las tecnologías de la información y comunicación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diciones insuficientes para garantizar en los alumnos el dominio del idioma inglés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sencia de estrategias para promover la armonización en el crecimiento de la divisiones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alta de una estrategia que promueva la realización de proyectos multi e interdisciplinarios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37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341360"/>
          <a:ext cx="8425080" cy="4541760"/>
        </p:xfrm>
        <a:graphic>
          <a:graphicData uri="http://schemas.openxmlformats.org/drawingml/2006/table">
            <a:tbl>
              <a:tblPr/>
              <a:tblGrid>
                <a:gridCol w="5256360"/>
                <a:gridCol w="316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ar con una oferta educativa amplia,   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 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versificada y de buena calidad, para la formación de profesionales, científicos y humanistas, competentes a nivel nacional e internacional, con gran aceptación en el mundo laboral y con una significativa capacidad de adaptación a los cambios que lo caracterizan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. AMPLIACIÓN Y DIVERSIFICACIÓN DE LA OFERTA EDUCATIVA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I. Consolidar el modelo educativo de la Unidad propiciando la equidad, la formación integral de los alumnos, la movilidad y el uso intensivo de las tecnologías de la información y comunicación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I. FORTALECIMIENTO EDUCATIVO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9640" y="1100160"/>
          <a:ext cx="8229600" cy="5151240"/>
        </p:xfrm>
        <a:graphic>
          <a:graphicData uri="http://schemas.openxmlformats.org/drawingml/2006/table">
            <a:tbl>
              <a:tblPr/>
              <a:tblGrid>
                <a:gridCol w="5112000"/>
                <a:gridCol w="3117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II. Lograr una perspectiva internacional, intercultural, interdisciplinaria y comparativa en el currículo  y en los temas de investigación; y la cooperación intelectual y científica a fin de que la formación de los alumnos contribuya a comprender mejor los problemas mundiales y el papel de los profesionales en su solución y la necesidad de convivir con culturas y valores diferentes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II. INTERNACIONALIZACIÓN E INTERCULTURALIDAD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V. Constituirse en un polo de desarrollo científico, tecnológico y humanístico de alto impacto por sus contribuciones a la generación y aplicación del conocimiento, y a la atención de problemáticas significativas del desarrollo social y económico del país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V. DESARROLLO Y CONSOLIDACIÓN DE CUERPOS Y SUS LÍNEAS DE GENERACIÓN Y APLICACIÓN DEL CONOCIMIENTO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9640" y="1197000"/>
          <a:ext cx="8229600" cy="5151240"/>
        </p:xfrm>
        <a:graphic>
          <a:graphicData uri="http://schemas.openxmlformats.org/drawingml/2006/table">
            <a:tbl>
              <a:tblPr/>
              <a:tblGrid>
                <a:gridCol w="4753080"/>
                <a:gridCol w="34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. Constituirse en un polo de desarrollo cultural con reconocimiento institucional y social por sus contribuciones relevantes a la formación integral de los alumnos y al desarrollo, promoción, y conservación de la cultura; y asumir el liderazgo en el desarrollo del corredor académico y cultural integrado por las IES e investigación de la zona poniente de la ciudad de México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V. DIFUSIÓN Y EXTENSIÓN DE LA CULTURA. EL CORREDOR ACADÉMICO Y CULTURAL DE LA ZONA PONIENTE DE LA CIUDAD DE MÉXICO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. Consolidar y multiplicar las actividades de vinculación con la sociedad para asegurar el buen funcionamiento del proyecto y del modelo educativo de la Unidad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VI. INTERCAMBIO, VINCULACIÓN Y COOPERACIÓN ACADÉMICA CON LOS SECTORES SOCIAL Y PRODUCTIVO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1125360"/>
          <a:ext cx="8353440" cy="5546880"/>
        </p:xfrm>
        <a:graphic>
          <a:graphicData uri="http://schemas.openxmlformats.org/drawingml/2006/table">
            <a:tbl>
              <a:tblPr/>
              <a:tblGrid>
                <a:gridCol w="4824360"/>
                <a:gridCol w="3529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I. Constituir una opción innovadora, atractiva y de calidad para la actualización de profesionales en activo y para la educación de adultos. 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VII. EDUCACIÓN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CONTINU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II. Contar con la infraestructura física adecuada para la operación del proyecto académico y del modelo educativo de la Unidad, garantizando el cuidado y protección del medio ambiente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VIII. PLAN RECTOR DE CONSTRUCCIONE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X. Asegurar que los programas educativos y los cuerpos académicos de las divisiones de la Unidad cuenten con la infraestructura necesaria para garantizar el desarrollo de sus proyectos y el cumplimiento de sus objetivos, así como para la formación integral de los alumnos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IX. DESARROLLO DE LA INFRAESTRUCTURA DE APOYO A LAS ACTIVIDADES ACADÉMICAS Y ADMINISTRATIVAS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14"/>
          <p:cNvSpPr/>
          <p:nvPr/>
        </p:nvSpPr>
        <p:spPr>
          <a:xfrm>
            <a:off x="1908000" y="1341360"/>
            <a:ext cx="5257800" cy="681120"/>
          </a:xfrm>
          <a:custGeom>
            <a:avLst/>
            <a:gdLst>
              <a:gd name="textAreaLeft" fmla="*/ 43920 w 5257800"/>
              <a:gd name="textAreaRight" fmla="*/ 5213880 w 5257800"/>
              <a:gd name="textAreaTop" fmla="*/ 43920 h 681120"/>
              <a:gd name="textAreaBottom" fmla="*/ 637200 h 681120"/>
            </a:gdLst>
            <a:ahLst/>
            <a:rect l="textAreaLeft" t="textAreaTop" r="textAreaRight" b="textAreaBottom"/>
            <a:pathLst>
              <a:path w="166661" h="21600">
                <a:moveTo>
                  <a:pt x="0" y="0"/>
                </a:moveTo>
                <a:lnTo>
                  <a:pt x="166661" y="0"/>
                </a:lnTo>
                <a:lnTo>
                  <a:pt x="166661" y="21600"/>
                </a:lnTo>
                <a:lnTo>
                  <a:pt x="0" y="21600"/>
                </a:lnTo>
                <a:close/>
              </a:path>
              <a:path fill="lightenLess" w="166661" h="21600">
                <a:moveTo>
                  <a:pt x="0" y="0"/>
                </a:moveTo>
                <a:lnTo>
                  <a:pt x="166661" y="0"/>
                </a:lnTo>
                <a:lnTo>
                  <a:pt x="165261" y="1400"/>
                </a:lnTo>
                <a:lnTo>
                  <a:pt x="1400" y="1400"/>
                </a:lnTo>
                <a:close/>
              </a:path>
              <a:path fill="darken" w="166661" h="21600">
                <a:moveTo>
                  <a:pt x="166661" y="0"/>
                </a:moveTo>
                <a:lnTo>
                  <a:pt x="166661" y="21600"/>
                </a:lnTo>
                <a:lnTo>
                  <a:pt x="165261" y="20200"/>
                </a:lnTo>
                <a:lnTo>
                  <a:pt x="165261" y="1400"/>
                </a:lnTo>
                <a:close/>
              </a:path>
              <a:path fill="darkenLess" w="166661" h="21600">
                <a:moveTo>
                  <a:pt x="166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261" y="20200"/>
                </a:lnTo>
                <a:close/>
              </a:path>
              <a:path fill="lighten" w="166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. INTRODUCCIÓN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1908000" y="2421000"/>
            <a:ext cx="5257800" cy="64764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5272" h="21600">
                <a:moveTo>
                  <a:pt x="0" y="0"/>
                </a:moveTo>
                <a:lnTo>
                  <a:pt x="175272" y="0"/>
                </a:lnTo>
                <a:lnTo>
                  <a:pt x="175272" y="21600"/>
                </a:lnTo>
                <a:lnTo>
                  <a:pt x="0" y="21600"/>
                </a:lnTo>
                <a:close/>
              </a:path>
              <a:path fill="lightenLess" w="175272" h="21600">
                <a:moveTo>
                  <a:pt x="0" y="0"/>
                </a:moveTo>
                <a:lnTo>
                  <a:pt x="175272" y="0"/>
                </a:lnTo>
                <a:lnTo>
                  <a:pt x="173872" y="1400"/>
                </a:lnTo>
                <a:lnTo>
                  <a:pt x="1400" y="1400"/>
                </a:lnTo>
                <a:close/>
              </a:path>
              <a:path fill="darken" w="175272" h="21600">
                <a:moveTo>
                  <a:pt x="175272" y="0"/>
                </a:moveTo>
                <a:lnTo>
                  <a:pt x="175272" y="21600"/>
                </a:lnTo>
                <a:lnTo>
                  <a:pt x="173872" y="20200"/>
                </a:lnTo>
                <a:lnTo>
                  <a:pt x="173872" y="1400"/>
                </a:lnTo>
                <a:close/>
              </a:path>
              <a:path fill="darkenLess" w="175272" h="21600">
                <a:moveTo>
                  <a:pt x="17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872" y="20200"/>
                </a:lnTo>
                <a:close/>
              </a:path>
              <a:path fill="lighten" w="17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. EL CONTEXTO DE LA EDUCACIÓN SUPERIOR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E LA UNIDAD CUAJIMALPA DE LA UA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1908000" y="4365720"/>
            <a:ext cx="5257800" cy="64764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5272" h="21600">
                <a:moveTo>
                  <a:pt x="0" y="0"/>
                </a:moveTo>
                <a:lnTo>
                  <a:pt x="175272" y="0"/>
                </a:lnTo>
                <a:lnTo>
                  <a:pt x="175272" y="21600"/>
                </a:lnTo>
                <a:lnTo>
                  <a:pt x="0" y="21600"/>
                </a:lnTo>
                <a:close/>
              </a:path>
              <a:path fill="lightenLess" w="175272" h="21600">
                <a:moveTo>
                  <a:pt x="0" y="0"/>
                </a:moveTo>
                <a:lnTo>
                  <a:pt x="175272" y="0"/>
                </a:lnTo>
                <a:lnTo>
                  <a:pt x="173872" y="1400"/>
                </a:lnTo>
                <a:lnTo>
                  <a:pt x="1400" y="1400"/>
                </a:lnTo>
                <a:close/>
              </a:path>
              <a:path fill="darken" w="175272" h="21600">
                <a:moveTo>
                  <a:pt x="175272" y="0"/>
                </a:moveTo>
                <a:lnTo>
                  <a:pt x="175272" y="21600"/>
                </a:lnTo>
                <a:lnTo>
                  <a:pt x="173872" y="20200"/>
                </a:lnTo>
                <a:lnTo>
                  <a:pt x="173872" y="1400"/>
                </a:lnTo>
                <a:close/>
              </a:path>
              <a:path fill="darkenLess" w="175272" h="21600">
                <a:moveTo>
                  <a:pt x="17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872" y="20200"/>
                </a:lnTo>
                <a:close/>
              </a:path>
              <a:path fill="lighten" w="17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V. UM PRIMER DIAGNÓSTICO GENERAL Y LOS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OS A SUPERAR EN EL MEDIANO PLAZO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1908000" y="3429000"/>
            <a:ext cx="5257800" cy="57636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6935" h="21600">
                <a:moveTo>
                  <a:pt x="0" y="0"/>
                </a:moveTo>
                <a:lnTo>
                  <a:pt x="196935" y="0"/>
                </a:lnTo>
                <a:lnTo>
                  <a:pt x="196935" y="21600"/>
                </a:lnTo>
                <a:lnTo>
                  <a:pt x="0" y="21600"/>
                </a:lnTo>
                <a:close/>
              </a:path>
              <a:path fill="lightenLess" w="196935" h="21600">
                <a:moveTo>
                  <a:pt x="0" y="0"/>
                </a:moveTo>
                <a:lnTo>
                  <a:pt x="196935" y="0"/>
                </a:lnTo>
                <a:lnTo>
                  <a:pt x="195535" y="1400"/>
                </a:lnTo>
                <a:lnTo>
                  <a:pt x="1400" y="1400"/>
                </a:lnTo>
                <a:close/>
              </a:path>
              <a:path fill="darken" w="196935" h="21600">
                <a:moveTo>
                  <a:pt x="196935" y="0"/>
                </a:moveTo>
                <a:lnTo>
                  <a:pt x="196935" y="21600"/>
                </a:lnTo>
                <a:lnTo>
                  <a:pt x="195535" y="20200"/>
                </a:lnTo>
                <a:lnTo>
                  <a:pt x="195535" y="1400"/>
                </a:lnTo>
                <a:close/>
              </a:path>
              <a:path fill="darkenLess" w="196935" h="21600">
                <a:moveTo>
                  <a:pt x="19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535" y="20200"/>
                </a:lnTo>
                <a:close/>
              </a:path>
              <a:path fill="lighten" w="19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II. VALORES, MISIÓN, LÍNEAS RECTORAS Y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SIÓN 2018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0" y="0"/>
            <a:ext cx="1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1252440" y="40464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PLAN DE DESARROLLLO INSTITUCIONAL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8-2018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5" name="AutoShape 27"/>
          <p:cNvSpPr/>
          <p:nvPr/>
        </p:nvSpPr>
        <p:spPr>
          <a:xfrm>
            <a:off x="1908000" y="5300640"/>
            <a:ext cx="5257800" cy="64764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5272" h="21600">
                <a:moveTo>
                  <a:pt x="0" y="0"/>
                </a:moveTo>
                <a:lnTo>
                  <a:pt x="175272" y="0"/>
                </a:lnTo>
                <a:lnTo>
                  <a:pt x="175272" y="21600"/>
                </a:lnTo>
                <a:lnTo>
                  <a:pt x="0" y="21600"/>
                </a:lnTo>
                <a:close/>
              </a:path>
              <a:path fill="lightenLess" w="175272" h="21600">
                <a:moveTo>
                  <a:pt x="0" y="0"/>
                </a:moveTo>
                <a:lnTo>
                  <a:pt x="175272" y="0"/>
                </a:lnTo>
                <a:lnTo>
                  <a:pt x="173872" y="1400"/>
                </a:lnTo>
                <a:lnTo>
                  <a:pt x="1400" y="1400"/>
                </a:lnTo>
                <a:close/>
              </a:path>
              <a:path fill="darken" w="175272" h="21600">
                <a:moveTo>
                  <a:pt x="175272" y="0"/>
                </a:moveTo>
                <a:lnTo>
                  <a:pt x="175272" y="21600"/>
                </a:lnTo>
                <a:lnTo>
                  <a:pt x="173872" y="20200"/>
                </a:lnTo>
                <a:lnTo>
                  <a:pt x="173872" y="1400"/>
                </a:lnTo>
                <a:close/>
              </a:path>
              <a:path fill="darkenLess" w="175272" h="21600">
                <a:moveTo>
                  <a:pt x="17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872" y="20200"/>
                </a:lnTo>
                <a:close/>
              </a:path>
              <a:path fill="lighten" w="17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5280" y="1484280"/>
          <a:ext cx="8229600" cy="3932280"/>
        </p:xfrm>
        <a:graphic>
          <a:graphicData uri="http://schemas.openxmlformats.org/drawingml/2006/table">
            <a:tbl>
              <a:tblPr/>
              <a:tblGrid>
                <a:gridCol w="5329080"/>
                <a:gridCol w="2900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X. Contar con una comunidad comprometida con el desarrollo sustentable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X. SUSTENTABILIDAD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XI. Contar con un modelo de gestión eficiente, eficaz y transparente para el seguimiento, la evaluación, la mejora continua y el aseguramiento de la calidad del modelo educativo de la Unidad, de sus programas educativos, de sus cuerpos académicos y líneas de generación y aplicación del conocimiento, de las funciones institucionales y de los procesos para la rendición de cuentas a la socie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XI. SEGUIMIENTO Y EVALUACIÓN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1628640"/>
          <a:ext cx="8229600" cy="4237200"/>
        </p:xfrm>
        <a:graphic>
          <a:graphicData uri="http://schemas.openxmlformats.org/drawingml/2006/table">
            <a:tbl>
              <a:tblPr/>
              <a:tblGrid>
                <a:gridCol w="4895640"/>
                <a:gridCol w="3333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XII. Contar con mecanismos de apoyo al desarrollo de las funciones universitarias eficientes y oportunos, evaluados favorablemente por los miembros de la comunidad universitaria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XII. ADMINISTRACIÓN Y GESTIÓN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XIII. Contar con esquemas eficaces para la obtención de recursos económicos adicionales al subsidio, que permitan contar con la solidez financiera que sustente la operación y respaldo de los programas institucionales prioritarios y la consecución de sus objetivos y metas. 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XIII. PROCURACIÓN DE FOND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1979640" y="404640"/>
            <a:ext cx="5257800" cy="64800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75175" h="21600">
                <a:moveTo>
                  <a:pt x="0" y="0"/>
                </a:moveTo>
                <a:lnTo>
                  <a:pt x="175175" y="0"/>
                </a:lnTo>
                <a:lnTo>
                  <a:pt x="175175" y="21600"/>
                </a:lnTo>
                <a:lnTo>
                  <a:pt x="0" y="21600"/>
                </a:lnTo>
                <a:close/>
              </a:path>
              <a:path fill="lightenLess" w="175175" h="21600">
                <a:moveTo>
                  <a:pt x="0" y="0"/>
                </a:moveTo>
                <a:lnTo>
                  <a:pt x="175175" y="0"/>
                </a:lnTo>
                <a:lnTo>
                  <a:pt x="173775" y="1400"/>
                </a:lnTo>
                <a:lnTo>
                  <a:pt x="1400" y="1400"/>
                </a:lnTo>
                <a:close/>
              </a:path>
              <a:path fill="darken" w="175175" h="21600">
                <a:moveTo>
                  <a:pt x="175175" y="0"/>
                </a:moveTo>
                <a:lnTo>
                  <a:pt x="175175" y="21600"/>
                </a:lnTo>
                <a:lnTo>
                  <a:pt x="173775" y="20200"/>
                </a:lnTo>
                <a:lnTo>
                  <a:pt x="173775" y="1400"/>
                </a:lnTo>
                <a:close/>
              </a:path>
              <a:path fill="darkenLess" w="175175" h="21600">
                <a:moveTo>
                  <a:pt x="175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75" y="20200"/>
                </a:lnTo>
                <a:close/>
              </a:path>
              <a:path fill="lighten" w="175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. LOS OBJETIVOS ESTRATÉGICOS, POLÍTICAS,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TRATEGIAS y METAS DEL PDI 2008-201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39640" y="1989000"/>
          <a:ext cx="8229600" cy="2592360"/>
        </p:xfrm>
        <a:graphic>
          <a:graphicData uri="http://schemas.openxmlformats.org/drawingml/2006/table">
            <a:tbl>
              <a:tblPr/>
              <a:tblGrid>
                <a:gridCol w="4492800"/>
                <a:gridCol w="373680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BJETIVOS ESTRATÉGICOS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XIV. Contar con una imagen institucional sólida que caracterice a la UAM-C como una institución donde las diversas actividades académicas, culturales, de vinculación y  gestión se reconozcan por su buena calidad.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6600"/>
                          </a:solidFill>
                          <a:latin typeface="Arial Narrow"/>
                          <a:ea typeface="Times New Roman"/>
                        </a:rPr>
                        <a:t>XIV. COMUNICACIÓN ESTRATÉGICA E IMAGEN INSTITUCIONAL</a:t>
                      </a:r>
                      <a:endParaRPr b="0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17287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 Narrow"/>
              </a:rPr>
              <a:t>Propósito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Especificar los objetivos estratégicos, las políticas, las estrategias y los programas institucionales prioritarios, mediante los cuales la comunidad universitaria realizará sus actividades para asegurar el cumplimiento de la Misión de la UAM-C y hacer realidad su Visión al año 201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ontar con una orientación consensuada para que las tres divisiones académicas y coordinaciones administrativas formulen sus programas de desarrollo, cuya realización coadyuve de manera coherente al propósito de lograr los objetivos estratégicos y las metas del P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979640" y="404640"/>
            <a:ext cx="5257800" cy="681120"/>
          </a:xfrm>
          <a:custGeom>
            <a:avLst/>
            <a:gdLst>
              <a:gd name="textAreaLeft" fmla="*/ 43920 w 5257800"/>
              <a:gd name="textAreaRight" fmla="*/ 5213880 w 5257800"/>
              <a:gd name="textAreaTop" fmla="*/ 43920 h 681120"/>
              <a:gd name="textAreaBottom" fmla="*/ 637200 h 681120"/>
            </a:gdLst>
            <a:ahLst/>
            <a:rect l="textAreaLeft" t="textAreaTop" r="textAreaRight" b="textAreaBottom"/>
            <a:pathLst>
              <a:path w="166661" h="21600">
                <a:moveTo>
                  <a:pt x="0" y="0"/>
                </a:moveTo>
                <a:lnTo>
                  <a:pt x="166661" y="0"/>
                </a:lnTo>
                <a:lnTo>
                  <a:pt x="166661" y="21600"/>
                </a:lnTo>
                <a:lnTo>
                  <a:pt x="0" y="21600"/>
                </a:lnTo>
                <a:close/>
              </a:path>
              <a:path fill="lightenLess" w="166661" h="21600">
                <a:moveTo>
                  <a:pt x="0" y="0"/>
                </a:moveTo>
                <a:lnTo>
                  <a:pt x="166661" y="0"/>
                </a:lnTo>
                <a:lnTo>
                  <a:pt x="165261" y="1400"/>
                </a:lnTo>
                <a:lnTo>
                  <a:pt x="1400" y="1400"/>
                </a:lnTo>
                <a:close/>
              </a:path>
              <a:path fill="darken" w="166661" h="21600">
                <a:moveTo>
                  <a:pt x="166661" y="0"/>
                </a:moveTo>
                <a:lnTo>
                  <a:pt x="166661" y="21600"/>
                </a:lnTo>
                <a:lnTo>
                  <a:pt x="165261" y="20200"/>
                </a:lnTo>
                <a:lnTo>
                  <a:pt x="165261" y="1400"/>
                </a:lnTo>
                <a:close/>
              </a:path>
              <a:path fill="darkenLess" w="166661" h="21600">
                <a:moveTo>
                  <a:pt x="166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261" y="20200"/>
                </a:lnTo>
                <a:close/>
              </a:path>
              <a:path fill="lighten" w="166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. INTRODUCCIÓN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ontribuir, desde el ámbito institucional, a la construcción, avance y consolidación de un sistema de educación superior abierto, flexible, equitativo y de buena calidad caracterizado por las relaciones de cooperación e intercambio académico entre las instituciones que lo conforman y que responda con mayor oportunidad y pertinencia a las demandas del desarrollo social y económico del paí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Difundir los compromisos que asume ante la sociedad en su propósito de consolidarse como una institución de educación superior de reconocida calidad y compromiso social en la zona poniente de la ciudad de Méxic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 Narrow"/>
              </a:rPr>
              <a:t>Propósito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Narrow"/>
              </a:rPr>
              <a:t>Visió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Ser ampliamente reconocida como un centro de referencia para la formación de profesionales de licenciatura y posgrado, competentes en los ámbitos nacional e internacional, y por sus programas y proyectos de alto impacto en el avance del conocimiento, en el desarrollo sustentable, social y económico y en el enriquecimiento del patrimonio cultural y artístico del paí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proyecto académico sustentado en las líneas rectoras de la Un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modelo educativo que fomenta el aprendizaje, la equidad y la formación integral de los alumnos, sustentado en una estructura curricular flexible, en el uso eficiente e intensivo de las tecnologías de la información y comunicación y en un esquema de gestión que asegura la incorporación sistemática de los avances de la investigación e innovación educativa y la revisión continua de la pertinencia de su oferta educa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Tener todos los programas educativos evaluables de licenciatura y posgrado reconocidos por su buena calidad por las entidades y los organismos nacionales especializados en la evaluación y la acredit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Poseer una planta académica conformada por profesores-investigadores de tiempo completo, organizados en cuerpos académicos, y de tiempo parcial en las proporciones adecuadas a la naturaleza de su oferta educativa. Los profesores-investigadores de tiempo completo cuentan con el grado de doctor y los de tiempo parcial con estudios de posgrado y/o amplia experiencia profesional. Sus cuerpos académicos se encuentran plenamente consolidados o en una fase avanzada de consolidación. Incorporan alumnos de distintos niveles a los procesos de generación y aplicación del conocimiento y la resolución de problemas para fortalecer su formación. Sus líneas de generación y aplicación del conocimiento se caracterizan por una fuerte orientación multi e interdisciplinaria que responden a problemas relevantes para la sociedad, la academia y el sector productivo. Forman parte de redes y estructuras de cooperación académica nacional e internacional y participan activamente en proyectos de intercambio académico y movilidad inter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Formar parte y ser un activo promotor del corredor académico y cultural de la zona poniente de la cidad de México debido a su capacidad para organizar, difundir y promover programas científicos, educativos y cultur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órganos colegiados en los que se encuentran representados los diferentes sectores de la comunidad universitaria, caracterizados por su funcionamiento regular y contribución eficaz a la planeación, evaluación y  toma de decisiones sobre el desarrollo del proyecto académico de la Unidad y de las divis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servicios eficientes de apoyo a la docencia, la generación, aplicación y difusión del conocimiento, y a la vinculación con los sectores productivos y de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Contar con un sistema de gestión de su capital intelectual que le permite a la Unidad vincularse efectivamente con los sectores social, público y privado, y emprender proyectos que atienden problemáticas metropolitanas y nacionales, y promueven la innovación tecnológ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Poseer un sistema interno de mejora continua y aseguramiento de la calidad de sus funciones y servicios, sustentado en la operación de procesos certificados bajo normas internacionales y sistemas de información confiables y actualizados, que permiten una administración transparente, un ejercicio eficiente de sus recursos y la rendición oportuna de cuentas a la soci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Aplicar políticas que fomentan el desarrollo permanente y armónico de sus divisiones académicas, planes y programas de estudio y cuerpos académic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Desarrollar programas con la participación de su comunidad en el cuidado del medio ambiente, la conservación de recursos naturales, la protección de ecosistemas y el desarrollo susten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900000" y="620640"/>
          <a:ext cx="7128000" cy="5354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128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6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055160" y="6122160"/>
            <a:ext cx="70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Figura 1. Sistema de gestión institucional para el seguimiento del PDI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1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La Unidad Cuajimalpa en el contexto de la U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2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Las transiciones demográfica, social, económica y   política del paí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3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El proceso de global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4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El desarrollo de la sociedad del conoci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5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El mercado laboral mexicano de los egresados de la educación superi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Narrow"/>
              </a:rPr>
              <a:t>II.6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Las tendencias internacionales de las ocupaciones y de la formación profe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908000" y="549360"/>
            <a:ext cx="5257800" cy="647640"/>
          </a:xfrm>
          <a:custGeom>
            <a:avLst/>
            <a:gdLst>
              <a:gd name="textAreaLeft" fmla="*/ 41760 w 5257800"/>
              <a:gd name="textAreaRight" fmla="*/ 5216040 w 5257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5272" h="21600">
                <a:moveTo>
                  <a:pt x="0" y="0"/>
                </a:moveTo>
                <a:lnTo>
                  <a:pt x="175272" y="0"/>
                </a:lnTo>
                <a:lnTo>
                  <a:pt x="175272" y="21600"/>
                </a:lnTo>
                <a:lnTo>
                  <a:pt x="0" y="21600"/>
                </a:lnTo>
                <a:close/>
              </a:path>
              <a:path fill="lightenLess" w="175272" h="21600">
                <a:moveTo>
                  <a:pt x="0" y="0"/>
                </a:moveTo>
                <a:lnTo>
                  <a:pt x="175272" y="0"/>
                </a:lnTo>
                <a:lnTo>
                  <a:pt x="173872" y="1400"/>
                </a:lnTo>
                <a:lnTo>
                  <a:pt x="1400" y="1400"/>
                </a:lnTo>
                <a:close/>
              </a:path>
              <a:path fill="darken" w="175272" h="21600">
                <a:moveTo>
                  <a:pt x="175272" y="0"/>
                </a:moveTo>
                <a:lnTo>
                  <a:pt x="175272" y="21600"/>
                </a:lnTo>
                <a:lnTo>
                  <a:pt x="173872" y="20200"/>
                </a:lnTo>
                <a:lnTo>
                  <a:pt x="173872" y="1400"/>
                </a:lnTo>
                <a:close/>
              </a:path>
              <a:path fill="darkenLess" w="175272" h="21600">
                <a:moveTo>
                  <a:pt x="17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872" y="20200"/>
                </a:lnTo>
                <a:close/>
              </a:path>
              <a:path fill="lighten" w="17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57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. EL CONTEXTO DE LA EDUCACIÓN SUPERIOR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E LA UNIDAD CUAJIMALPA DE LA UA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5:59:00Z</dcterms:created>
  <dc:creator>Office 2000</dc:creator>
  <dc:description/>
  <dc:language>en-US</dc:language>
  <cp:lastModifiedBy>O.Comas</cp:lastModifiedBy>
  <dcterms:modified xsi:type="dcterms:W3CDTF">2008-12-09T16:15:09Z</dcterms:modified>
  <cp:revision>325</cp:revision>
  <dc:subject/>
  <dc:title>Proceso de Consultoría</dc:title>
</cp:coreProperties>
</file>