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  <p:custShowLst>
    <p:custShow name="Presentación personalizada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24D8-1D71-478B-BD50-01A1B45A1AA4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2DED-271A-49FB-8A9E-1B18ABE29CA0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3C5D-B620-4FD2-89B6-67EA0E2CE8BA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3B22-6CBA-4221-9124-B9AB05131AB6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09C4-DFB8-4104-84F2-D1A957F6A284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68B3-1718-4B11-8588-C4A7532E78EA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E6AF-4697-4EDA-A0E3-FA46F2169259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F9D6-F9B6-4AD0-8B47-439CCE0C09BB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49D6-0271-42F9-8026-57E4CE1D7535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A133-7116-459B-8BB9-7229D0F656E8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8FBA-C9AC-49EB-913F-FF8DABCBADD2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4DDA-8E55-4509-9D54-08850F71587B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C1D8-3384-4FAC-BC6E-6944E29F6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3146-C814-4BB3-82E8-6091542E4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C257-56C7-44CE-A27D-1726C82BD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C9ED-2028-4223-B45E-99CB9D278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3D89C-7B71-49EE-BEFB-3503F399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59C92-9FA8-4B71-92F1-8D00814D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62800-920E-448D-8265-BBBF5BE8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A9DA4-8D15-46BE-A89A-9C92723A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3555B-8241-4BE2-993A-18859E43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E1B57-9E4F-4B8E-9D6A-B0BB77F5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6CDF4-D270-4CDA-B0DF-C0D70CF6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B94C-0AED-4207-8C25-56267953F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52F66-01CF-454E-BB12-70384DE2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3C988-94F3-45F3-BB1F-15CDFC93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33FC3-F9CE-496E-BDB2-38427047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AE8E9-4CD7-4E84-A799-1674D491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87271-5C24-49E7-AF81-1EE2A6D3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B972-8E69-412B-A1AE-CB9217E9A1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BB11-1299-49A8-AA27-8B3E8223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EBA5-2BAC-4884-89E0-7D8122F1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705A-E06A-4C4B-A493-7DB88584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57EC-7597-496B-8DA6-D1E9BB79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3195-041E-49D7-8249-DA862F8DF9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CBD5-8771-421C-966E-CF21CAB4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5DA5-7437-4037-92D9-FCF4783C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0842-3CE3-40F9-8A5C-63F4CF9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EA1C-E8AD-4398-BC02-736665B4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44E5-6379-47D5-961B-4616F5B5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7E27-FAD8-45B6-B278-3F19346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A1A2-4EF5-4288-B502-E0C397555B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4908-4700-4542-81EF-7C759B26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946D-C00F-4077-8030-8B9A33AB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F0C1-CB16-4D99-83E6-213FDC6A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6F97-E796-4FC7-9259-6208218C6B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0378-9D0F-443A-95A4-646E94D9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334B-66B6-494A-A231-EE274A68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BF5F-F4B8-4431-8673-555282FA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ADE6-6DC2-418E-A8E2-E9C9BE6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4E6C-8C48-4EAA-9741-7D20653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0137-2C31-4F8F-9453-56E5AFED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E835-E6E2-459C-BE74-51DCDE37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F76A-949B-4DE7-A1A7-340DAC09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3DED2-493C-4786-BC5A-5728A684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7C9F-61A9-4B86-82BA-0ADA2E23C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6197-2CD9-4D7D-A8C6-B62526E78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9329-F821-45C7-9408-148350EE5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1C79-D9B3-43B7-AD5D-3CF0A16F2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4AE1-CCD3-48A8-A58E-1A1A5F3A9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7A51-B28A-4AD7-A92C-85CB79715469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68360" y="333360"/>
            <a:ext cx="8077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gradFill rotWithShape="0">
            <a:gsLst>
              <a:gs pos="0">
                <a:srgbClr val="764718"/>
              </a:gs>
              <a:gs pos="50000">
                <a:srgbClr val="ff9933"/>
              </a:gs>
              <a:gs pos="100000">
                <a:srgbClr val="7647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48" name="Rectangle 10"/>
          <p:cNvGrpSpPr/>
          <p:nvPr/>
        </p:nvGrpSpPr>
        <p:grpSpPr>
          <a:xfrm>
            <a:off x="-6480" y="4565520"/>
            <a:ext cx="244440" cy="2298960"/>
            <a:chOff x="-6480" y="4565520"/>
            <a:chExt cx="244440" cy="2298960"/>
          </a:xfrm>
        </p:grpSpPr>
        <p:pic>
          <p:nvPicPr>
            <p:cNvPr id="49" name="Rectangle 10" descr=""/>
            <p:cNvPicPr/>
            <p:nvPr/>
          </p:nvPicPr>
          <p:blipFill>
            <a:blip r:embed="rId2"/>
            <a:stretch/>
          </p:blipFill>
          <p:spPr>
            <a:xfrm>
              <a:off x="-6480" y="4565520"/>
              <a:ext cx="24444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4572000"/>
              <a:ext cx="228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51" name="Rectangle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1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1" name="Rectangle 29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4" name="Rectangle 40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95" name="Object 39"/>
          <p:cNvGraphicFramePr/>
          <p:nvPr/>
        </p:nvGraphicFramePr>
        <p:xfrm>
          <a:off x="3492360" y="476280"/>
          <a:ext cx="20383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476280"/>
                    <a:ext cx="2038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1A81-A169-44EA-8515-C5675801153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140" name="Rectangle 11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145" name="Picture 16" descr="index_r2_c10"/>
          <p:cNvPicPr/>
          <p:nvPr/>
        </p:nvPicPr>
        <p:blipFill>
          <a:blip r:embed="rId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E81B-D8AD-469D-8C6F-F7A2DAD17971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57300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LAN DE DESARROLLO INSTITUCIONAL</a:t>
            </a:r>
            <a:br>
              <a:rPr sz="3600"/>
            </a:b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 2008-20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085760" y="3011400"/>
            <a:ext cx="6972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731640" y="6237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ciembre, 2008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1914840" y="1914120"/>
            <a:ext cx="52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UNIVERSIDAD AUTÓNOMA METROPOLITANA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UNIDAD CUAJIMALPA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CONSEJO ACADÉMICO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00040" y="1214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Formar parte y ser un activo promotor del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corredor académico y cultural de la zona poniente de la ciudad de México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debido a su capacidad para organizar, difundir y promover programas científicos, educativos y cultur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órganos colegiado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en los que se encuentran representados los diferentes sectores de la comunidad universitaria, caracterizados por su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funcionamiento regular y contribución eficaz a la planeación, evaluación y  toma de decisione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sobre el desarrollo del proyecto académico de la Unidad y de las divis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servicios eficientes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de apoyo a la docencia, la generación, aplicación y difusión del conocimiento, y a la vinculación con los sectores productivos y de servic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 Narrow"/>
              </a:rPr>
              <a:t>Vis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un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sistema de gestión de su capital intelectual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que le permite a la Unidad vincularse efectivamente con los sectores social, público y privado, y emprender proyectos que atienden problemáticas metropolitanas y nacionales, y promueven la innovación tecnológ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Poseer un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sistema interno de mejora continua y aseguramiento de la calidad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de sus funciones y servicios, sustentado en la operación de procesos certificados bajo normas internacionales y sistemas de información confiables y actualizados, que permiten una administración transparente, un ejercicio eficiente de sus recursos y la rendición oportuna de cuentas a la socie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Aplicar políticas que fomentan el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desarrollo permanente y armónico de sus divisiones académica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, planes y programas de estudio y cuerpos académic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Desarrollar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programa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con la participación de su comunidad en el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cuidado del medio ambiente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, la conservación de recursos naturales, la protección de ecosistemas y el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desarrollo sustentable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 Narrow"/>
              </a:rPr>
              <a:t>Vis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Arial Narrow"/>
              </a:rPr>
              <a:t>Valor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680" y="23274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Autonom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Libertad de cátedr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Libertad de investigación e innovación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 Narrow"/>
              </a:rPr>
              <a:t>Búsqueda de la verdad</a:t>
            </a: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 y el </a:t>
            </a:r>
            <a:r>
              <a:rPr b="0" i="1" lang="es-MX" sz="2800" spc="-1" strike="noStrike">
                <a:solidFill>
                  <a:srgbClr val="000000"/>
                </a:solidFill>
                <a:latin typeface="Arial Narrow"/>
              </a:rPr>
              <a:t>rigor académico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Responsabilidad so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Calidad, Equidad  y Justi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6 Rectángulo"/>
          <p:cNvSpPr/>
          <p:nvPr/>
        </p:nvSpPr>
        <p:spPr>
          <a:xfrm>
            <a:off x="785880" y="42876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ALORES, MISIÓN, LÍNEAS RECTORAS Y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ISIÓN 2018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Narrow"/>
              </a:rPr>
              <a:t>Misió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57120" y="1999800"/>
            <a:ext cx="822960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Formar ciudadanos críticos, informados y cultos 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que ejerzan responsablemente sus derechos y participen en el desarrollo de una sociedad sustentable y multicultu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Propiciar el </a:t>
            </a: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compromiso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 ético de su comunidad con </a:t>
            </a: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la equidad y la justicia social, la democracia, el respeto a las diferencias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, la honestidad, la conservación del patrimonio cultural y el cuidado del medio amb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Narrow"/>
              </a:rPr>
              <a:t>Misió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Asegurar que el desarrollo de sus </a:t>
            </a: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funciones sustantivas 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se apoye en el reconocimiento de la historia, el territorio, las lenguas y la cultura en los ámbitos local, regional y mund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Producir, trasmitir, recrear y difundir el saber en el conjunto de las áreas de </a:t>
            </a: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conocimiento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 para coadyuvar al </a:t>
            </a: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desarrollo equitativo y sustentable de la sociedad y de los ecosistemas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. Lo hace con calidad y con un ánimo de superación permanente desde campos emergentes que se sustentan en prácticas multi e interdisciplinari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Arial Narrow"/>
              </a:rPr>
              <a:t>Mis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Integrar una comunidad académica del más alto nivel comprometida con el trabajo colectivo, agrupada en </a:t>
            </a: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cuerpos académicos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 que mediante sus proyectos de generación y aplicación innovadora del conocimiento hacen sistemáticamente </a:t>
            </a: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aportes relevantes a las ciencias, las humanidades y la tecnolog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Trabajar en forma colegiada y propiciar una toma de decisiones consensuada, la responsabilidad en la conducción de sus funciones, el </a:t>
            </a: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desarrollo armónico y equilibrado de sus programas y proyectos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, la transparencia en el manejo de los recursos y la rendición de cuentas ante su comunidad, y la sociedad en gene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Arial Narrow"/>
              </a:rPr>
              <a:t>Mis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Aportar a la </a:t>
            </a:r>
            <a:r>
              <a:rPr b="0" lang="es-MX" sz="2400" spc="-1" strike="noStrike">
                <a:solidFill>
                  <a:srgbClr val="ff0000"/>
                </a:solidFill>
                <a:latin typeface="Arial Narrow"/>
              </a:rPr>
              <a:t>renovación y reforma de la Universidad Autónoma Metropolitana, 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con base en su reconocimiento y atención a las diferencias de los sujetos de su comuni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 Narrow"/>
              </a:rPr>
              <a:t>Líneas rectora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Multi e interdisciplinari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Las Tecnologías de la Información y la Comun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 Narrow"/>
              </a:rPr>
              <a:t>Vis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Ser ampliamente reconocida como un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centro de referencia para la formación de profesionales de licenciatura y posgrado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, competentes en los ámbitos nacional e internacional, y por sus programas y proyectos de alto impacto en el avance del conocimiento, en el desarrollo sustentable, social y económico y en el enriquecimiento del patrimonio cultural y artístico del paí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un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proyecto académico sustentado en las líneas rectoras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de la Un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un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modelo educativo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que fomenta el aprendizaje, la equidad y la formación integral de los alumnos, sustentado en una estructura curricular flexible, en el uso eficiente e intensivo de las tecnologías de la información y comunicación y en un esquema de gestión que asegura la incorporación sistemática de los avances de la investigación e innovación educativa y la revisión continua de la pertinencia de su oferta educa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 Narrow"/>
              </a:rPr>
              <a:t>Vis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Tener todos los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programas educativos evaluables de licenciatura y posgrado reconocidos por su buena calidad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por las entidades y los organismos nacionales especializados en la evaluación y la acredit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Poseer una planta académica conformada por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profesores-investigadores de tiempo completo,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organizados en cuerpos académicos, y de tiempo parcial en las proporciones adecuadas a la naturaleza de su oferta educativa. Los profesores-investigadores de tiempo completo cuentan con el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grado de doctor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y los de tiempo parcial con estudios de posgrado y/o amplia experiencia profesional. Sus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cuerpos académico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se encuentran plenamente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consolidado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o en una fase avanzada de consolidación. Incorporan alumnos de distintos niveles a los procesos de generación y aplicación del conocimiento y la resolución de problemas para fortalecer su formación. Sus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líneas de generación y aplicación del conocimiento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se caracterizan por una fuerte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orientación multi e interdisciplinaria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que responden a problemas relevantes para la sociedad, la academia y el sector productivo. Forman parte de </a:t>
            </a:r>
            <a:r>
              <a:rPr b="0" lang="es-MX" sz="2000" spc="-1" strike="noStrike">
                <a:solidFill>
                  <a:srgbClr val="ff0000"/>
                </a:solidFill>
                <a:latin typeface="Arial Narrow"/>
              </a:rPr>
              <a:t>redes y estructuras de cooperación académica nacional e internacional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y participan activamente en proyectos de intercambio académico y movilidad inter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5:59:00Z</dcterms:created>
  <dc:creator>Office 2000</dc:creator>
  <dc:description/>
  <dc:language>en-US</dc:language>
  <cp:lastModifiedBy>O.Comas</cp:lastModifiedBy>
  <dcterms:modified xsi:type="dcterms:W3CDTF">2008-12-09T19:34:58Z</dcterms:modified>
  <cp:revision>313</cp:revision>
  <dc:subject/>
  <dc:title>Proceso de Consultoría</dc:title>
</cp:coreProperties>
</file>